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80759-529E-4325-830A-6ABF064A00AB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lateral cephalogra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and posttreatment superimposition.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, lateral cephalometric tracing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, individual cephalometric superimposition of the maxilla (palatal plane);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C,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 individual cephalometric superimposition of the mandible (mandibular plane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Follow-up intraoral photographs at 17 mont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Follow-up periapical radiographs at 17 mont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facial and intraoral phot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periapical radi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lateral cephalogra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Intraoral progress photographs and periapical radiographs to show bone topography on maxillary premolar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facial and intraoral phot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periapical radi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lsevier.com/termsandcondition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1260360"/>
            <a:ext cx="8640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A modified orthodontic protocol for advanced periodontal disease in Class II division 1 malocclusion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Marcos Janson, Guilherme Janson, Oscar Edwin Francisco Murillo-Goizueta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 139, Issue 4, Pages S133-S144 (April 2011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ajodo.2009.03.05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4880" y="762120"/>
            <a:ext cx="3645000" cy="4984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22360" y="1906560"/>
            <a:ext cx="6350040" cy="2693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22360" y="1870200"/>
            <a:ext cx="6350040" cy="27684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2360" y="888840"/>
            <a:ext cx="6350040" cy="4730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22360" y="1544760"/>
            <a:ext cx="6350040" cy="3417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22360" y="1300320"/>
            <a:ext cx="6350040" cy="3908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22360" y="1055520"/>
            <a:ext cx="6350040" cy="4395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39960" y="762120"/>
            <a:ext cx="3714840" cy="498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85880" y="762120"/>
            <a:ext cx="4023000" cy="4984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97200" y="762120"/>
            <a:ext cx="5400360" cy="4984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22360" y="1300320"/>
            <a:ext cx="6350040" cy="3908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22360" y="1138320"/>
            <a:ext cx="6350040" cy="4232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1 139, S133-S144DOI: (10.1016/j.ajodo.2009.03.053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1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